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E128-E8E8-4352-A3D3-F21BD8D51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3483-7D88-4D4C-A476-16F5906B5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capacity should focus on these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29E2-0567-4253-B446-32668E99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9A85-F378-4804-B599-81E0213AD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apaci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9DEE-22E6-43BB-84DF-D9BBC13BE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A330-A66C-474F-8A83-5FB130B06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CF89-F349-451C-AE9E-5BB080CDA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last three decades great advances have been  made in science. Here I group the applications in to two groups. Science for development as well as application for Emergency Preparedne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AB91-55D0-4FBD-88FE-752302681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AD covets the supports of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D396-D69E-4C28-BA62-C72F882B9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9B9D-A6BE-4D4E-A88A-C6204F4B1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B692-7030-47AE-AD9B-CFE541DBD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behalf of NPCA and the AUC thank the organizers for the in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51D3-8F3A-47B7-ADB1-F649B713A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E1DA-F1F8-442F-BC2B-0546B5BA8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11A3-5590-4BDF-8768-8B0B8B76E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3279-2B5F-4AE4-B4D5-07519C41C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1CAA-D68A-4F51-8032-BBE867CFB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1E85-3923-47B7-9662-D41EBC7A0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the Food Security cluster – establishment of CAA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3E7B-5C10-457D-B77A-279D31C22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ACBD-4B7B-48B2-9534-00D1EA433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FAC-B358-4D44-A14E-5A0FF542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D13-1DD5-4AD4-892D-905A6695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993-CA2E-4051-B30C-0D1E16A8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4D6-D567-4D68-B367-CE95D056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245A-6670-4550-98A9-1E6DFD3D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028A-FCA7-4DC4-847C-7C73950F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FC45-C722-45FE-BB01-FD2D5ADB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CFB5-9A8B-4BDE-A917-AE8F8286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4E55-02BB-407A-B0CC-83A077B4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54D5-9FE0-47AC-BD7D-6913FA4E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DB3B-13C0-4A3E-AD5B-9A99DBB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DA7-84BA-4C5F-AFD3-FDF7077F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9366-C0F4-489F-8133-0D287223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650A-F139-4432-90EA-BCCF927C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F5AB-411F-425D-AAF4-01B2C24E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5581-02D1-4CAA-A9C2-F6EA7AA2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DDB4-6B2C-4055-ABC8-8565CD54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F78-61A4-4EF2-AADE-3E004BF0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DEE-39C1-4068-BC41-4D48D003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155-EDA3-4B3C-9798-77B52426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B2F-9AF5-4079-89A5-6BD880D8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C29-BF9B-4FDD-9CF9-85FA4490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B5C-81FC-4C5A-98B1-1FAB6D4B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EA7-BECF-40F1-9CDE-B9A5F694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650880" y="0"/>
            <a:ext cx="849312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1E79-03A5-4370-80FA-FB061CA660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PCA logo.jpg"/>
          <p:cNvPicPr/>
          <p:nvPr/>
        </p:nvPicPr>
        <p:blipFill>
          <a:blip r:embed="rId3"/>
          <a:stretch/>
        </p:blipFill>
        <p:spPr>
          <a:xfrm>
            <a:off x="3924360" y="5445000"/>
            <a:ext cx="2450880" cy="12081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10 year logo-latest 51.jpg"/>
          <p:cNvPicPr/>
          <p:nvPr/>
        </p:nvPicPr>
        <p:blipFill>
          <a:blip r:embed="rId4"/>
          <a:stretch/>
        </p:blipFill>
        <p:spPr>
          <a:xfrm>
            <a:off x="6012000" y="5805360"/>
            <a:ext cx="255564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650880" y="0"/>
            <a:ext cx="8493120" cy="686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NPCA logo.jpg"/>
          <p:cNvPicPr/>
          <p:nvPr/>
        </p:nvPicPr>
        <p:blipFill>
          <a:blip r:embed="rId3"/>
          <a:stretch/>
        </p:blipFill>
        <p:spPr>
          <a:xfrm>
            <a:off x="3924360" y="5445000"/>
            <a:ext cx="2450880" cy="120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0 year logo-latest 51.jpg"/>
          <p:cNvPicPr/>
          <p:nvPr/>
        </p:nvPicPr>
        <p:blipFill>
          <a:blip r:embed="rId4"/>
          <a:stretch/>
        </p:blipFill>
        <p:spPr>
          <a:xfrm>
            <a:off x="6012000" y="5805360"/>
            <a:ext cx="2555640" cy="857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E8B1-5BD5-4BD9-B1A6-ED9E4FD33E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CAADP’s Pillar III and Africa’s Capacity Building Requirements for Food Security Information Systems</a:t>
            </a:r>
            <a:br>
              <a:rPr sz="40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2"/>
          <p:cNvSpPr/>
          <p:nvPr/>
        </p:nvSpPr>
        <p:spPr>
          <a:xfrm>
            <a:off x="395280" y="2852640"/>
            <a:ext cx="7772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050920" y="2781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keholders Consultative Conference on the Food Security Information Network (FSI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ari Park Hotel, Nairobi, 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ptember 8-9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2"/>
          <p:cNvSpPr/>
          <p:nvPr/>
        </p:nvSpPr>
        <p:spPr>
          <a:xfrm>
            <a:off x="1258920" y="4437000"/>
            <a:ext cx="5905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rudom@nepa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Improving early warning systems and crisis prev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ehensive risk assessments at national, district and community levels followed by the formulation of risk-reduction strategies at all administrative leve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st in village level monitoring, reporting and prevention mech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of sectoral information monitoring systems relevant to food and nutri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itutionalization of food insecurity risk management systems at national, regional and continental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 national, regional and Pan-African emergency response mechanisms including trans-boundary animal disease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local capacities and coping strategies into national and regional crisis preparedness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conditional transfers of food, cash, and other items where appropri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utilization of domestic and regional trade to stabilize food supplies (and prices) in affected 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broad-based logistics capacities, decentralizing functions where fea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protocols to enhance coordination among government, civil society, and international humanitarian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orporation of food and nutrition security under special recovery plans and existing poverty reduction strategies and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Improving management of emerg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trengthening risk management policies and instit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341000"/>
            <a:ext cx="8640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ulation of improved risk mgt policies, incl. proactive review and use of alternative instruments to deal with crises, e.g., food &amp; financial reserves, weather-based insurance &amp; futures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orporation of food &amp; nutrition security under special recovery plans and existing poverty reduction strategies and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ment of objective criteria for selecting among resource transfer modalities, focusing on in-kind food and cash transf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policies and institutions for improved management of food surpl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broad-based social protec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of food security platforms within social protec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hallenges in the implementation of FAF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capacity gap in data, information and knowledge in food security monitoring and disaster risk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vy dependency on adhoc early warning and food security monitoring systems operated by part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integration of such system in to national, regional, and continental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Africa led framework that ensures standardized approach across countries and reg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integration, coordination and networking in managing food insecurity and disaster risk management and climate change challe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Continental investment --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NPCA is has identified key interventions  for the implementation of FAF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 a Continental early warning and food security information portal (platform) at NP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engthen analytical capacity of NPCA and the AUC where information coming from the RECs and member states will be synthesized for decision making and policy dialogue and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 REC’s capacity to undertake Africa led emergency assessments, contingency planning and resource mob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 member states and RECs operational capacity to respond to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regional and continental  preparedness modalities for disaster risk red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ordinate institutional capacity building support for the A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, RECs, regional EWS institutions and member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ntegrate in FAFS latest advances in Sc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3052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rovements in Food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ment in agriculture production and y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d agricultural processing and stor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d water and soil conser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lar, wind, geo-thermal and small scale hydro-electric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54160">
              <a:lnSpc>
                <a:spcPct val="120000"/>
              </a:lnSpc>
              <a:spcBef>
                <a:spcPts val="700"/>
              </a:spcBef>
              <a:buClr>
                <a:srgbClr val="f69b2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69b2c"/>
                </a:solidFill>
                <a:latin typeface="Calibri"/>
              </a:rPr>
              <a:t>Improved monitoring and 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mproved ICT and satellite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mproved weather forec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mproved crop mode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mproved risk and hazard analysis and model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54160">
              <a:lnSpc>
                <a:spcPct val="120000"/>
              </a:lnSpc>
              <a:spcBef>
                <a:spcPts val="499"/>
              </a:spcBef>
              <a:buClr>
                <a:srgbClr val="f69b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9b2c"/>
                </a:solidFill>
                <a:latin typeface="Calibri"/>
              </a:rPr>
              <a:t>Innovative applications such as drought insuranc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395280" y="1413000"/>
            <a:ext cx="792000" cy="2447640"/>
          </a:xfrm>
          <a:custGeom>
            <a:avLst/>
            <a:gdLst>
              <a:gd name="textAreaLeft" fmla="*/ 506160 w 792000"/>
              <a:gd name="textAreaRight" fmla="*/ 792360 w 792000"/>
              <a:gd name="textAreaTop" fmla="*/ 65160 h 2447640"/>
              <a:gd name="textAreaBottom" fmla="*/ 238248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0"/>
                  <a:pt x="10800" y="1839"/>
                </a:cubicBezTo>
                <a:lnTo>
                  <a:pt x="10800" y="8961"/>
                </a:lnTo>
                <a:cubicBezTo>
                  <a:pt x="10800" y="9881"/>
                  <a:pt x="5400" y="10800"/>
                  <a:pt x="0" y="10800"/>
                </a:cubicBezTo>
                <a:cubicBezTo>
                  <a:pt x="5400" y="10800"/>
                  <a:pt x="10800" y="11720"/>
                  <a:pt x="10800" y="12639"/>
                </a:cubicBezTo>
                <a:lnTo>
                  <a:pt x="10800" y="19761"/>
                </a:lnTo>
                <a:cubicBezTo>
                  <a:pt x="10800" y="2068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 rot="16200000">
            <a:off x="-1040400" y="16959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95280" y="3860640"/>
            <a:ext cx="863640" cy="2494080"/>
          </a:xfrm>
          <a:custGeom>
            <a:avLst/>
            <a:gdLst>
              <a:gd name="textAreaLeft" fmla="*/ 551880 w 863640"/>
              <a:gd name="textAreaRight" fmla="*/ 864000 w 863640"/>
              <a:gd name="textAreaTop" fmla="*/ 61200 h 2494080"/>
              <a:gd name="textAreaBottom" fmla="*/ 2432880 h 249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9"/>
                  <a:pt x="10800" y="1697"/>
                </a:cubicBezTo>
                <a:lnTo>
                  <a:pt x="10800" y="9103"/>
                </a:lnTo>
                <a:cubicBezTo>
                  <a:pt x="10800" y="9952"/>
                  <a:pt x="5400" y="10800"/>
                  <a:pt x="0" y="10800"/>
                </a:cubicBezTo>
                <a:cubicBezTo>
                  <a:pt x="5400" y="10800"/>
                  <a:pt x="10800" y="11649"/>
                  <a:pt x="10800" y="12497"/>
                </a:cubicBezTo>
                <a:lnTo>
                  <a:pt x="10800" y="19903"/>
                </a:lnTo>
                <a:cubicBezTo>
                  <a:pt x="10800" y="20752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 rot="16200000">
            <a:off x="-1083960" y="479988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ole of Partners in Supporting NPCA’s Initia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NPCA’s effort to establish an effective and transparent regional and continental level early warning and disaster risk management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part in the networking of regional and continental level early warning and disaster risk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in technical and financial resource mobilization to implement the NPCA plann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rdinate with the Regional Coordination Mechanism ( RCM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riculture, Food security and Rural Development Cluster (AFSRD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AFSRDC  is led by FAO and WFP from the UN system and has concluded capacity needs assessment of the AUC and NP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In then MID Term Comprehensive Capacity Building Programme for NPCA and the AU, AFSRDC has identified specific capacity building prioriti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CA and the AUC support the proposed Global FSIN initi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frica, we hope this initiative will support and strengthen existing Africa led frameworks such as the implementation of FA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stablishing a Continental early warning and food security information portal (platform) at NPCA will ensure political support at the highest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will also ensure accountability, sustainability and also acceptability by African Govern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our development partners interested to help in this area, NPCA has a detailed proposal that we could share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with you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ci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support to the humanitarian and development partners for their initiative to strengthen Food Security Information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ee on the need for such effort but need to consider ownership, accountability and ensure sustainability by supporting existing Africa owned framewor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ctation of NPCA and the AUC from this meeting is a strong commitment to support African Effor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Food and Nutrition Insecurity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od and Nutrition Situation of many Africans: precarious  state ; millions exposed to recurrent food and nutrition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The current crisis in the Horn of Africa where more than 13 million people are in need of emergency support is a case in poi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The AU, for the first time in its history has organized a pledging conference to raise resources from its member states for the emergen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od and Nutrition problems are expected to be even more challenging as the underlining causes such as poverty and vulnerability are compounded b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The adverse impacts of Climate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Persisting Global Financial Cri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501be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be5"/>
                </a:solidFill>
                <a:latin typeface="Calibri"/>
              </a:rPr>
              <a:t>High volatility for food, agricultural inputs and f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African Leaders’ Commitment to Address the Challenges of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rican leaders, concerned by the limited progress in addressing the multitude of problems that Africans are facing, decided to establish Africa’s own agenda with a clear vision and strategy –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Partnership for Africa’s Development - NEP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PAD was formally adopted as an integrated socio-economic development framework for Africa by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37th Ordinary Session of the Assembly of the then Organisation of African Unity (OAU) held in Lusaka, Zambia, in July 2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mary goal set by NEPAD is to promote sustainable growth and development and ensure the food and nutrition security of the whole of Afr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Key principles that guide the implementation of NEP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frican ownership and leadership, &amp; broad and deep participation by all sectors of socie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choring the development of Africa on its resources and resourcefulness of its peopl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artnership between and amongst African people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cceleration of regional and continental integration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ilding the competitiveness of African countries and the continent as a whole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ging a new international partnership that changes the unequal relationship between Africa and the developed world; &amp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nsuring that all partnerships with NPCA are linked to the Millennium Development Goals (MDGs) and other agreed development goals and targe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1be5"/>
                </a:solidFill>
                <a:latin typeface="Calibri"/>
              </a:rPr>
              <a:t>The NEPAD Planning and Coordinating Agency and its man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cilitate the delivery of high quality programmes and projects and to promote Africa’s Development and Regional Integration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U assembly transformed NEPAD into the NEPAD Planning and Coordinating Agency NPCA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14440"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Strengthen networking and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14440"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obilize expert knowledge an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14440"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Conduct coordinated research and knowledge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14440">
              <a:buClr>
                <a:srgbClr val="00b05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Facilitate, coordinate and establish networking in the implementation of regional, and continental priority programs and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NPCA priority areas of interv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01be5"/>
                </a:solidFill>
                <a:latin typeface="Calibri"/>
              </a:rPr>
              <a:t>The five themes of NPCA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od Security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imate Change and Sustainable Developmen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gional Integration and Infrastructu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uman Capital Development;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conomic and Corporate Govern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The Comprehensive Africa’s Agriculture Development Programme - CAAD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1be5"/>
                </a:solidFill>
                <a:latin typeface="Calibri"/>
              </a:rPr>
              <a:t>Food security cluster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– establishment of CAADP - Africa’s response to agricultural development and food security. CAADP has four mutually reinforcing and interlinked pillars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illar 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Extending the area under sustainable land management and reliable water control system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illar I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Improving rural infrastructure and trade-related capacities for market acces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501b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501be5"/>
                </a:solidFill>
                <a:latin typeface="Calibri"/>
              </a:rPr>
              <a:t>Pillar III</a:t>
            </a:r>
            <a:r>
              <a:rPr b="1" lang="en-GB" sz="2400" spc="-1" strike="noStrike">
                <a:solidFill>
                  <a:srgbClr val="501be5"/>
                </a:solidFill>
                <a:latin typeface="Calibri"/>
              </a:rPr>
              <a:t>: Increasing food supply, reducing hunger and improving responses to food emergency cris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illar IV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Improving agriculture research, technology dissemination and ad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alibri"/>
              </a:rPr>
              <a:t>CAADP Pillar III Framework for African Food Security (FAF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PCA in collaboration with its partners has developed  a f/work  for food and nutrition security with the following ele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501be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1be5"/>
                </a:solidFill>
                <a:latin typeface="Calibri"/>
              </a:rPr>
              <a:t>Improving  risk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arly warning and crisis pre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nagement of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risk management policies and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501be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1be5"/>
                </a:solidFill>
                <a:latin typeface="Calibri"/>
              </a:rPr>
              <a:t>Increasing food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atural 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chnology development and upta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ke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501be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1be5"/>
                </a:solidFill>
                <a:latin typeface="Calibri"/>
              </a:rPr>
              <a:t>Addressing the needs of vulnerable pop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ome generating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set accum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stainable liveliho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2:36:08Z</dcterms:created>
  <dc:creator>Benita Nsabua</dc:creator>
  <dc:description/>
  <dc:language>en-US</dc:language>
  <cp:lastModifiedBy>Luca Russo</cp:lastModifiedBy>
  <dcterms:modified xsi:type="dcterms:W3CDTF">2011-09-08T06:11:37Z</dcterms:modified>
  <cp:revision>24</cp:revision>
  <dc:subject/>
  <dc:title>Slide 1</dc:title>
</cp:coreProperties>
</file>